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462DD-F16D-4830-8BDA-9D8682B53F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2CED8-F50E-4ED2-84A5-8A46956DC1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35D1E17D-FF0B-4398-B8FA-A8EF192A45A5}"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2292126-24CC-4EF5-BDFB-CACC0B054D4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3BB4553-8FF8-4104-878D-772614C7079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E067470-78C3-4000-9778-C07FBD0A7843}" type="datetime">
              <a:rPr b="0" lang="en-US" sz="1200" spc="-1" strike="noStrike">
                <a:solidFill>
                  <a:srgbClr val="000000"/>
                </a:solidFill>
                <a:latin typeface="Times New Roman"/>
                <a:ea typeface="Arial"/>
              </a:rPr>
              <a:t>07/29/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983FCD0-08B7-4850-BC9F-ADED11E82DFE}" type="datetime3">
              <a:rPr b="0" lang="en-US" sz="1200" spc="-1" strike="noStrike">
                <a:solidFill>
                  <a:srgbClr val="000000"/>
                </a:solidFill>
                <a:latin typeface="Times New Roman"/>
                <a:ea typeface="Arial"/>
              </a:rPr>
              <a:t>July 29,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2D8D1FC-DD29-485F-982E-B6EE2BA5EBE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C5BD8B-21D2-44F1-B160-CAE70A86CB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642E0-B31B-4820-93AC-BBC19ACBB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118E00-92C2-412A-ACC8-0C44B06A9E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C562B-01DC-4066-8D69-73B37A731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91C72-3A61-483D-8066-7E9382D6B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B15848-3267-452B-AFFA-1F223486D2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2AD01-3A61-454A-BA09-69E6DC35E6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C230CE-7D96-40C6-B832-D9ED82A5EA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C1043-F160-4551-BDAC-2365DC3F0D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2F0F56-E6EB-47B4-A059-A9AE6641AF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8B717-B5B0-468F-AA9E-78BB377A0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40F09D-E579-4009-B489-91A422F45B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EA6F5-7899-4B35-B5C9-3C4630285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E3F26-999F-4CA4-92C0-405144958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901F9-2DF0-4746-8FF6-991185B71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2B6D7-3FFD-49E9-A561-D78ACB87BA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78E6E7-C150-4418-B99A-64F6F950E1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194562-61D9-4CC7-B905-9D7F2A7336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1A010-37E8-4BB4-8FE1-9B1E62602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4D096-D858-46F9-A5F1-CDBFA15F6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EE822-E0AE-4B72-BFC8-9E0A61B65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D712E-F236-4B60-8C73-288C92F1D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A4989-F1A0-49CC-A177-4B45503B1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D94D2-CDDC-4956-A570-9D38A94078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A36F3-5FD1-4340-9588-A1DB0A0A0E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77D3B1F-FF5B-40D2-9EF5-8791340E67B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9AF8FDF-5B9B-479E-84E9-7DD62B3CE77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237A140-2BF9-4024-BBD0-751F68B3010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9C1A7-29C5-4DB5-B8B7-8A9F4C123715}"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7FAD8C2-7646-4AFE-86AF-1988D0AF22D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28B385F-9962-4524-93E3-5CFF2BB9332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B4C5B7D-C5D4-44B0-9AC3-9CF80F56043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